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299-8776-459C-884F-F6914DDB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58E-9B69-47E8-B052-BC753B1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CF7-74E0-46AD-92EF-005CCA81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196-3A74-4857-A70D-792D09B7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BD8-1DB6-4037-B413-F052BFB8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49A-1DAF-46A9-9F2D-5E6CE71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0BD-1D6D-4345-A148-5E585886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B6E4-610E-4B3C-B9EC-76B2DA02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BF9-CA49-4B71-AD7A-BC2B9812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42D-3053-4FED-A28B-009401F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B7D8-81DE-42F1-B7A6-D200A77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BF2-BAEC-4488-9270-3E087196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60B-B19D-4D1D-A9BF-8FBCE38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9B3-D105-4556-B395-8F15D14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4BFD-879B-4532-9085-4016F040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52B-B12A-41A7-9AF9-1213F7E0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EB7F-D45C-4371-8A02-F280E1C1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58B-2A7E-49E6-9F34-56DF9B5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309-BB78-4261-B2D6-87799DED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21D-6C73-462C-AEE3-5C2C43A2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A7A-F70A-4EC8-BD7E-A4D3E919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FF8-915E-45B8-8609-693A3EC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EF7-E06E-4E27-8957-DD412E71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32A-7B8A-45C3-9C48-97A89C9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79a9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DEBD-E1C8-4B63-9BAC-C86B667445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79a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79a9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455b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79a9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4a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79a9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19E8-CE95-43AA-8B6C-8A8580E3A515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Pagliaro@seymourschools.org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esar_augustus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upload.wikimedia.org/wikipedia/commons/e/eb/Statue-Augustus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Rome Review 3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ome Becomes an Emp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Christopher J. Pagliar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Seymour High Scho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CPagliaro@seymourschools.or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Copyright 200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2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 Triumvirat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5" descr="702augustus"/>
          <p:cNvPicPr/>
          <p:nvPr/>
        </p:nvPicPr>
        <p:blipFill>
          <a:blip r:embed="rId1"/>
          <a:stretch/>
        </p:blipFill>
        <p:spPr>
          <a:xfrm>
            <a:off x="228600" y="1523880"/>
            <a:ext cx="3122640" cy="3581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Octavian-Augustus"/>
          <p:cNvPicPr/>
          <p:nvPr/>
        </p:nvPicPr>
        <p:blipFill>
          <a:blip r:embed="rId2"/>
          <a:stretch/>
        </p:blipFill>
        <p:spPr>
          <a:xfrm>
            <a:off x="3352680" y="1523880"/>
            <a:ext cx="2256120" cy="3733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ompeius_normal"/>
          <p:cNvPicPr/>
          <p:nvPr/>
        </p:nvPicPr>
        <p:blipFill>
          <a:blip r:embed="rId3"/>
          <a:stretch/>
        </p:blipFill>
        <p:spPr>
          <a:xfrm>
            <a:off x="5562720" y="1447920"/>
            <a:ext cx="260964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0"/>
          <p:cNvSpPr txBox="1"/>
          <p:nvPr/>
        </p:nvSpPr>
        <p:spPr>
          <a:xfrm>
            <a:off x="1371600" y="5257800"/>
            <a:ext cx="6438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Californian FB"/>
              </a:rPr>
              <a:t>Marc Antony, Octavian, &amp; Lepid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Californian FB"/>
              <a:ea typeface="Californian FB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Octavian</a:t>
            </a:r>
            <a:r>
              <a:rPr b="0" lang="en-US" sz="42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Augustus</a:t>
            </a:r>
            <a:r>
              <a:rPr b="0" lang="en-US" sz="4200" spc="-1" strike="noStrike">
                <a:solidFill>
                  <a:srgbClr val="7030a0"/>
                </a:solidFill>
                <a:latin typeface="Wingdings"/>
                <a:ea typeface="Wingdings"/>
              </a:rPr>
              <a:t></a:t>
            </a: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EMPIR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ctavian began rule c. 27 B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emperor (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mperator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d all levels of govern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itl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ugust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ontifex Maxim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rincep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Pax Romana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g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Augustus as a magistrat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23880"/>
            <a:ext cx="2702160" cy="4876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Image:Statue-August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1371600"/>
            <a:ext cx="327636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Augustus’ Reform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Refor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Restored Roman Relig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Morality Law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Increased tra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fe land and sea trade routes aided economic growt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aded with Spain, Africa, Asia, Gau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fied currenc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ass division worsen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sults of Roman expansion produced social conflict and civil wa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Julius Caesar gained power and became a dictator but was then assassinat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reign of Augustus began a long period of imperial rule and peace in the Roman Empi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Why it matters now…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me faced the problems of how to maintain peace, law, and order. Modern governments face similar problem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Reformer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iberius &amp; Gaius Gracch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Give land to plebeians?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Murdered as enemies of the Senate in 133 and 122 BC</a:t>
            </a:r>
            <a:r>
              <a:rPr b="0" lang="en-US" sz="21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1" name="Picture 5" descr="gc_gracchi"/>
          <p:cNvPicPr/>
          <p:nvPr/>
        </p:nvPicPr>
        <p:blipFill>
          <a:blip r:embed="rId1"/>
          <a:stretch/>
        </p:blipFill>
        <p:spPr>
          <a:xfrm>
            <a:off x="4572000" y="2057400"/>
            <a:ext cx="4267080" cy="3648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ivil War:91-82 BC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9" descr="Image:Cornelio Sila.jpg"/>
          <p:cNvPicPr/>
          <p:nvPr/>
        </p:nvPicPr>
        <p:blipFill>
          <a:blip r:embed="rId1"/>
          <a:stretch/>
        </p:blipFill>
        <p:spPr>
          <a:xfrm>
            <a:off x="990720" y="1600200"/>
            <a:ext cx="2441520" cy="3562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5334120" y="51814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aius Mari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13" descr="marius"/>
          <p:cNvPicPr/>
          <p:nvPr/>
        </p:nvPicPr>
        <p:blipFill>
          <a:blip r:embed="rId2"/>
          <a:stretch/>
        </p:blipFill>
        <p:spPr>
          <a:xfrm>
            <a:off x="5334120" y="1676520"/>
            <a:ext cx="2842920" cy="3539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6094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Lucius Cornelius Sulla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f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WordArt 17"/>
          <p:cNvSpPr txBox="1"/>
          <p:nvPr/>
        </p:nvSpPr>
        <p:spPr>
          <a:xfrm>
            <a:off x="533520" y="5943600"/>
            <a:ext cx="31240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37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vored by Patrici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WordArt 18"/>
          <p:cNvSpPr txBox="1"/>
          <p:nvPr/>
        </p:nvSpPr>
        <p:spPr>
          <a:xfrm>
            <a:off x="5181480" y="5867280"/>
            <a:ext cx="312444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37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vored by Plebei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Sulla’s Successors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mpey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an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ass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rassus"/>
          <p:cNvPicPr/>
          <p:nvPr/>
        </p:nvPicPr>
        <p:blipFill>
          <a:blip r:embed="rId1"/>
          <a:stretch/>
        </p:blipFill>
        <p:spPr>
          <a:xfrm>
            <a:off x="5562720" y="2286000"/>
            <a:ext cx="2921040" cy="378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Image:CS002910.jpg"/>
          <p:cNvPicPr/>
          <p:nvPr/>
        </p:nvPicPr>
        <p:blipFill>
          <a:blip r:embed="rId2"/>
          <a:stretch/>
        </p:blipFill>
        <p:spPr>
          <a:xfrm>
            <a:off x="990720" y="2209680"/>
            <a:ext cx="281916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Sulla Spared Marius’ aid…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200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Julius Caes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8" descr="Image:Julius caesar.jpg"/>
          <p:cNvPicPr/>
          <p:nvPr/>
        </p:nvPicPr>
        <p:blipFill>
          <a:blip r:embed="rId1"/>
          <a:stretch/>
        </p:blipFill>
        <p:spPr>
          <a:xfrm>
            <a:off x="4343400" y="1600200"/>
            <a:ext cx="26370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7030a0"/>
                </a:solidFill>
                <a:latin typeface="Times New Roman"/>
              </a:rPr>
              <a:t>First Triumvirate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officially ruled Rome &amp; its Territories from 60 BC-53 B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Image:CS002910.jpg"/>
          <p:cNvPicPr/>
          <p:nvPr/>
        </p:nvPicPr>
        <p:blipFill>
          <a:blip r:embed="rId1"/>
          <a:stretch/>
        </p:blipFill>
        <p:spPr>
          <a:xfrm>
            <a:off x="380880" y="2590920"/>
            <a:ext cx="2819520" cy="378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rassus"/>
          <p:cNvPicPr/>
          <p:nvPr/>
        </p:nvPicPr>
        <p:blipFill>
          <a:blip r:embed="rId2"/>
          <a:stretch/>
        </p:blipFill>
        <p:spPr>
          <a:xfrm>
            <a:off x="3276720" y="2590920"/>
            <a:ext cx="2921040" cy="378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age:Julius caesar.jpg"/>
          <p:cNvPicPr/>
          <p:nvPr/>
        </p:nvPicPr>
        <p:blipFill>
          <a:blip r:embed="rId3"/>
          <a:stretch/>
        </p:blipFill>
        <p:spPr>
          <a:xfrm>
            <a:off x="6324480" y="2590920"/>
            <a:ext cx="210204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7"/>
          <p:cNvSpPr txBox="1"/>
          <p:nvPr/>
        </p:nvSpPr>
        <p:spPr>
          <a:xfrm>
            <a:off x="1219320" y="57150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Pompey, Crassus, &amp; Caes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Who was Julius Caesar?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Helped Marius conquer Spain &amp; Asia Minor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Conquered Gau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i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Popular with Plebeian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Unpopular with Senat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fter defeating Gaul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Ordered to disband Army by Pompey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Crossed Rubicon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170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egan 2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Civil War in 46 BC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5" descr="Image:LocationRubicon.PNG"/>
          <p:cNvPicPr/>
          <p:nvPr/>
        </p:nvPicPr>
        <p:blipFill>
          <a:blip r:embed="rId1"/>
          <a:stretch/>
        </p:blipFill>
        <p:spPr>
          <a:xfrm>
            <a:off x="1295280" y="1600200"/>
            <a:ext cx="609624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ollaborated with Cleopatra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Picture 5" descr="cleopatraV2"/>
          <p:cNvPicPr/>
          <p:nvPr/>
        </p:nvPicPr>
        <p:blipFill>
          <a:blip r:embed="rId1"/>
          <a:stretch/>
        </p:blipFill>
        <p:spPr>
          <a:xfrm>
            <a:off x="685800" y="1600200"/>
            <a:ext cx="4662360" cy="360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791320" y="2895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feated Pompey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Dictator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solute Rul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Reform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Calendar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Job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Expansion of Senate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Expansion of citizenship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030a0"/>
                </a:solidFill>
                <a:latin typeface="Arial"/>
              </a:rPr>
              <a:t>Lower taxes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uld he be king?  Tyran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Murdered March 15, 44 BC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Death Ended the Republic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1:26Z</dcterms:created>
  <dc:creator>Chris</dc:creator>
  <dc:description/>
  <dc:language>en-US</dc:language>
  <cp:lastModifiedBy>cpagliaro</cp:lastModifiedBy>
  <dcterms:modified xsi:type="dcterms:W3CDTF">2010-12-20T13:54:05Z</dcterms:modified>
  <cp:revision>7</cp:revision>
  <dc:subject/>
  <dc:title>Rome Review 3: Rome Becomes an Empire</dc:title>
</cp:coreProperties>
</file>